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F28A-5303-4847-9E2B-BD0D47DF7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0772-A031-4FE2-804B-B4AAAEC79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fdc/welcome_mjx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5A2B-E418-4676-B114-2B8431E52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BB0F-7504-4D87-A44F-E1BF056FD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1C33-3CAE-44DF-AD75-07E588551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67BF-5A12-44EC-9E50-F19203DCE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icense.umn.edu/Products/Implantable-Microvalve-Device-for-Controlled-Insulin-Delivery-in-Type-1-Diabetes-Patients__Z02003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0CED-09C2-4A8A-8538-F71B07D25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Plas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3306-2952-4807-90F9-0BE6235D7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C7DF-CA56-487B-96C0-EDAFE00D4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F648-D5A9-4079-8185-4EDF4B2BF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on this slide &amp; next are from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s-cool.co.uk/a-level/biology/genetic-engineering/revise-it/transferring-the-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F3CE-615B-4ACE-815D-2F153E7C0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C67C-F83E-4699-9688-6E3A328FE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bfrontier.com/cs/gene.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6D82-EB5F-4A76-9F0E-5F20612E0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EB39-F118-4A5D-8D5B-35FFE8D75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Griffith's_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strain took up plasmids from heat-killed S strain, causing transformation of R cells into S cells (since the protein that produced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ating was coded for in the 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9BB8-93A4-49BF-8EB0-E0C4D0036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3820-9CA0-4E70-B477-DB8D68241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0CBC-9958-46E2-BAA4-294C8BB1B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utexas.edu/faculty/sjasper/bio212/biotec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85B2-E566-4ABA-9986-656759382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78C4-3DE1-4EDC-9CBA-B623350D7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barleyworld.org/css430_09/lecture%208-09/notes8-09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0BD3-3305-407C-B090-4E6EECB0C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restriction-endonucleases-or-restriction-enzymes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4946-0AFB-4B5A-9844-A12325AC3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bsp.med.harvard.edu/node/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naccurate about this image?  Recognition sequence is not palindro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5A86-BFB5-4740-ADEA-87F788C5B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Plas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43CD-AC18-4FDB-93C2-17BFD72A6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ruf.rice.edu/~bioslabs/bios111/bios111_day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CAAD-C320-4BEB-8AF8-A1F8706FC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324-3C45-4658-99B0-6A1E6D7B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BC1-48CA-4814-9C2F-3703A2EE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0A2-CFD0-4862-95A8-45074D20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319-71CF-49ED-9B3A-CEC2865A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067-D4F7-4553-B317-75BA5029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67DC-4832-4451-AE07-1FDE054B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BF6-C271-4052-946B-6E52500E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237-34C4-44E2-AD60-2FBEB4C3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5AC-F852-4B68-9FE7-5E3E79FA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0E4-3A3F-4D16-AFE4-2E0FF653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F794-F51E-44E4-A103-4469862A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333-F5FA-45DF-8D37-DDBC34ED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22A5-4FEE-4CEE-873F-7BD400233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Tech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1 - Manipulating &amp; Cloning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#1 (p.37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Z unc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Z cut with Eco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Z cut with P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Z cut with EcoRI and P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#2 (p.37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20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W  unc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W cut with Hind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W cut with Bam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W cut with HindIII and Bam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#3 (p.37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1981080"/>
          <a:ext cx="7772400" cy="394200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880"/>
                <a:gridCol w="1110960"/>
                <a:gridCol w="1109880"/>
                <a:gridCol w="1111320"/>
                <a:gridCol w="1109520"/>
              </a:tblGrid>
              <a:tr h="1586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mH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RI + BamH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RI + Sma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mHI + Sma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RI + BamHI + Sma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u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nd safflower plants) has been engineered to produce human insulin.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insulin"/>
          <p:cNvPicPr/>
          <p:nvPr/>
        </p:nvPicPr>
        <p:blipFill>
          <a:blip r:embed="rId1"/>
          <a:stretch/>
        </p:blipFill>
        <p:spPr>
          <a:xfrm>
            <a:off x="5183280" y="1981080"/>
            <a:ext cx="2738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insulin gene can be introduced to plasmids (recombinant 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ids can be introduced to bacteria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300px-Plasmid_(english)"/>
          <p:cNvPicPr/>
          <p:nvPr/>
        </p:nvPicPr>
        <p:blipFill>
          <a:blip r:embed="rId1"/>
          <a:stretch/>
        </p:blipFill>
        <p:spPr>
          <a:xfrm>
            <a:off x="4648320" y="3143160"/>
            <a:ext cx="38098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ids as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can be inserted into plasmids using restriction enzymes and DNA lig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n introduce these genes i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lasmids determines how much protein will b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ig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lig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used to attach restriction 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simple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dnalc.org/resources/animations/restriction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" descr="circle1"/>
          <p:cNvPicPr/>
          <p:nvPr/>
        </p:nvPicPr>
        <p:blipFill>
          <a:blip r:embed="rId1"/>
          <a:stretch/>
        </p:blipFill>
        <p:spPr>
          <a:xfrm>
            <a:off x="1136520" y="609480"/>
            <a:ext cx="2908440" cy="259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circle2"/>
          <p:cNvPicPr/>
          <p:nvPr/>
        </p:nvPicPr>
        <p:blipFill>
          <a:blip r:embed="rId2"/>
          <a:stretch/>
        </p:blipFill>
        <p:spPr>
          <a:xfrm>
            <a:off x="4572000" y="770040"/>
            <a:ext cx="3886200" cy="227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3halfcircles"/>
          <p:cNvPicPr/>
          <p:nvPr/>
        </p:nvPicPr>
        <p:blipFill>
          <a:blip r:embed="rId3"/>
          <a:stretch/>
        </p:blipFill>
        <p:spPr>
          <a:xfrm>
            <a:off x="1955880" y="3429000"/>
            <a:ext cx="5154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circle3"/>
          <p:cNvPicPr/>
          <p:nvPr/>
        </p:nvPicPr>
        <p:blipFill>
          <a:blip r:embed="rId1"/>
          <a:stretch/>
        </p:blipFill>
        <p:spPr>
          <a:xfrm>
            <a:off x="1176480" y="609480"/>
            <a:ext cx="2827080" cy="2590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ircle4"/>
          <p:cNvPicPr/>
          <p:nvPr/>
        </p:nvPicPr>
        <p:blipFill>
          <a:blip r:embed="rId2"/>
          <a:stretch/>
        </p:blipFill>
        <p:spPr>
          <a:xfrm>
            <a:off x="5106960" y="609480"/>
            <a:ext cx="2814840" cy="2590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ircle5"/>
          <p:cNvPicPr/>
          <p:nvPr/>
        </p:nvPicPr>
        <p:blipFill>
          <a:blip r:embed="rId3"/>
          <a:stretch/>
        </p:blipFill>
        <p:spPr>
          <a:xfrm>
            <a:off x="1193760" y="3429000"/>
            <a:ext cx="2716200" cy="266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smallcircle"/>
          <p:cNvPicPr/>
          <p:nvPr/>
        </p:nvPicPr>
        <p:blipFill>
          <a:blip r:embed="rId4"/>
          <a:stretch/>
        </p:blipFill>
        <p:spPr>
          <a:xfrm>
            <a:off x="5081760" y="3429000"/>
            <a:ext cx="2865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gene_cloning_img1"/>
          <p:cNvPicPr/>
          <p:nvPr/>
        </p:nvPicPr>
        <p:blipFill>
          <a:blip r:embed="rId1"/>
          <a:stretch/>
        </p:blipFill>
        <p:spPr>
          <a:xfrm>
            <a:off x="685800" y="985680"/>
            <a:ext cx="77724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produced by bacteria to function as an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syste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ainst invading viruses by cutting up the viral DNA or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remember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450px-Griffith_experiment"/>
          <p:cNvPicPr/>
          <p:nvPr/>
        </p:nvPicPr>
        <p:blipFill>
          <a:blip r:embed="rId1"/>
          <a:stretch/>
        </p:blipFill>
        <p:spPr>
          <a:xfrm>
            <a:off x="2116080" y="1981080"/>
            <a:ext cx="49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introduction of plasmid (with recombinant DNA) to bacteri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can be ma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placing in C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ion (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s neutralize the phosphate groups on the membrane, heating &amp; cooling disrupt cell membra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that shows engineering of plasmids with characteristics of 2 anti-biotic strains of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their introduction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nalc.org/resources/animations/transformation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-by-step explana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www.s-cool.co.uk/a-level/biology/genetic-engineering/revise-it/transferring-the-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ontent Placeholder 2" descr="20.4.gif"/>
          <p:cNvPicPr/>
          <p:nvPr/>
        </p:nvPicPr>
        <p:blipFill>
          <a:blip r:embed="rId1"/>
          <a:srcRect l="-87377" t="0" r="-87377" b="0"/>
          <a:stretch/>
        </p:blipFill>
        <p:spPr>
          <a:xfrm>
            <a:off x="395280" y="1413000"/>
            <a:ext cx="842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ion enzymes cut DNA at a specific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gnition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 sites are alway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lindro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(same sequence when read from the 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rection on either str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figure-11-04"/>
          <p:cNvPicPr/>
          <p:nvPr/>
        </p:nvPicPr>
        <p:blipFill>
          <a:blip r:embed="rId1"/>
          <a:stretch/>
        </p:blipFill>
        <p:spPr>
          <a:xfrm>
            <a:off x="1155600" y="1752480"/>
            <a:ext cx="675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nt Ends vs. Sticky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restrictionenzyme"/>
          <p:cNvPicPr/>
          <p:nvPr/>
        </p:nvPicPr>
        <p:blipFill>
          <a:blip r:embed="rId1"/>
          <a:stretch/>
        </p:blipFill>
        <p:spPr>
          <a:xfrm>
            <a:off x="685800" y="2606760"/>
            <a:ext cx="77724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RE"/>
          <p:cNvPicPr/>
          <p:nvPr/>
        </p:nvPicPr>
        <p:blipFill>
          <a:blip r:embed="rId1"/>
          <a:stretch/>
        </p:blipFill>
        <p:spPr>
          <a:xfrm>
            <a:off x="685800" y="1235160"/>
            <a:ext cx="777240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pieces of non-chromosomal DNA found in bacteria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to bacteria through conjugation &amp;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300px-Plasmid_(english)"/>
          <p:cNvPicPr/>
          <p:nvPr/>
        </p:nvPicPr>
        <p:blipFill>
          <a:blip r:embed="rId1"/>
          <a:stretch/>
        </p:blipFill>
        <p:spPr>
          <a:xfrm>
            <a:off x="4648320" y="3143160"/>
            <a:ext cx="38098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lasmid_map"/>
          <p:cNvPicPr/>
          <p:nvPr/>
        </p:nvPicPr>
        <p:blipFill>
          <a:blip r:embed="rId1"/>
          <a:stretch/>
        </p:blipFill>
        <p:spPr>
          <a:xfrm>
            <a:off x="1825560" y="1981080"/>
            <a:ext cx="549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estriction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utorial 1: p.370-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Problem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3200400"/>
          <a:ext cx="8229600" cy="3508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83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X undigest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X digested with Eco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X digested with BamH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mid X digested with EcoRI and BamH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2:26:53Z</dcterms:created>
  <dc:creator>rubina khan</dc:creator>
  <dc:description/>
  <dc:language>en-US</dc:language>
  <cp:lastModifiedBy>rubina khan</cp:lastModifiedBy>
  <dcterms:modified xsi:type="dcterms:W3CDTF">2017-04-11T02:25:20Z</dcterms:modified>
  <cp:revision>229</cp:revision>
  <dc:subject/>
  <dc:title>Biotechnological Tools and Techniques</dc:title>
</cp:coreProperties>
</file>